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08D3-067C-4A38-88A1-181592E9F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5238-C619-4C2B-8A71-D5D49CA89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BD5E-66E0-470C-B976-28AA9138B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3A8-2906-422E-97C1-3661A638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BA0-5A64-4E1A-B309-31F00F82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978-54B6-4EFE-9A79-385C4E1C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775-FB72-460C-9A19-2609316B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FB5-5C56-4AB1-9DF1-8FA9F391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920-1D40-4DA2-87CB-24D19806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0A8-C24B-4AA5-99D1-06DAFA3C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1B3-A426-4796-A877-121AA238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1E5-3015-45E0-84EB-E396FB93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FFE-6BA4-4DC2-848D-A1130B93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A15-DF7A-4C78-8698-43E09EA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355-7990-48D7-B876-E662D553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F1A8-807F-4F66-91A4-B3E533EA3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tcircles.org/Overview/overview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eadwritethink.org/files/resources/lesson_images/lesson19/LiteratureCircleProcess.pdf" TargetMode="External"/><Relationship Id="rId2" Type="http://schemas.openxmlformats.org/officeDocument/2006/relationships/hyperlink" Target="http://www.litcircles.org/Discussion/teaching.html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adwritethink.org/files/resources/lesson_images/lesson19/RWTa11-2.pdf" TargetMode="External"/><Relationship Id="rId2" Type="http://schemas.openxmlformats.org/officeDocument/2006/relationships/hyperlink" Target="http://www.readwritethink.org/files/resources/lesson_images/lesson19/RWTa11-3.pdf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CH 264: Critical Literacy and 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nuary 24,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lesn.appstate.edu/fryeem/RE4030/MVC-007S.JPG"/>
          <p:cNvPicPr/>
          <p:nvPr/>
        </p:nvPicPr>
        <p:blipFill>
          <a:blip r:embed="rId1"/>
          <a:stretch/>
        </p:blipFill>
        <p:spPr>
          <a:xfrm>
            <a:off x="169920" y="22860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s://encrypted-tbn0.gstatic.com/images?q=tbn:ANd9GcQMfffg9ndqr4tEI4EGtQZ7VvfELjDPsuwA9l2hZwqHbypIyHlO3Q"/>
          <p:cNvPicPr/>
          <p:nvPr/>
        </p:nvPicPr>
        <p:blipFill>
          <a:blip r:embed="rId2"/>
          <a:stretch/>
        </p:blipFill>
        <p:spPr>
          <a:xfrm>
            <a:off x="6019920" y="4430880"/>
            <a:ext cx="259056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 i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k Walk (teacher-l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et in you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your book (Decide as a group how you want to do 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out the roles if you like (or plan how you want to structure your discu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summa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ck a passage and words to discuss as a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llustrate a pa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a character sketch of some sort (Share characterization ideas you’ve seen in your classroo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 ideas of Citizenship as it relates to your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/Research Multimodal Texts that can be used with your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e will share when you fini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35053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m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ntral topic, subject, or concept the author is trying to point out. Themes often explore historically common or cross-culturally recognizable ideas and are almost always impl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kipedia, http://en.wikipedia.org/wiki/Literary_the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external image images?q=tbn:ANd9GcQZ9uVFTPzHebnQJS1jG0JY0br1CIlE7YnjHbte0q3AMNA5OjPt"/>
          <p:cNvPicPr/>
          <p:nvPr/>
        </p:nvPicPr>
        <p:blipFill>
          <a:blip r:embed="rId1"/>
          <a:stretch/>
        </p:blipFill>
        <p:spPr>
          <a:xfrm>
            <a:off x="3581280" y="1219320"/>
            <a:ext cx="1533600" cy="207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external image images?q=tbn:ANd9GcRF4hbRYsW0XW5iY97fd9p49878eang3mxTA5QlG0i26XRHnes0"/>
          <p:cNvPicPr/>
          <p:nvPr/>
        </p:nvPicPr>
        <p:blipFill>
          <a:blip r:embed="rId2"/>
          <a:stretch/>
        </p:blipFill>
        <p:spPr>
          <a:xfrm>
            <a:off x="0" y="228600"/>
            <a:ext cx="1905120" cy="154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external image images?q=tbn:ANd9GcTkYpiaC-Od3I2wV1vthG6JWY4NVSoTISLheMN50-x1EONI7z1Y"/>
          <p:cNvPicPr/>
          <p:nvPr/>
        </p:nvPicPr>
        <p:blipFill>
          <a:blip r:embed="rId3"/>
          <a:stretch/>
        </p:blipFill>
        <p:spPr>
          <a:xfrm>
            <a:off x="1447920" y="1752480"/>
            <a:ext cx="1828800" cy="149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external image images?q=tbn:ANd9GcTJO4PdmToOeljgP2YVePN0JreAFU63wYxySGXBASBMezytRhBgeA"/>
          <p:cNvPicPr/>
          <p:nvPr/>
        </p:nvPicPr>
        <p:blipFill>
          <a:blip r:embed="rId4"/>
          <a:stretch/>
        </p:blipFill>
        <p:spPr>
          <a:xfrm>
            <a:off x="5334120" y="1371600"/>
            <a:ext cx="156348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external image just-a-dream.jpg"/>
          <p:cNvPicPr/>
          <p:nvPr/>
        </p:nvPicPr>
        <p:blipFill>
          <a:blip r:embed="rId5"/>
          <a:stretch/>
        </p:blipFill>
        <p:spPr>
          <a:xfrm>
            <a:off x="7238880" y="0"/>
            <a:ext cx="1676520" cy="2171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external image images?q=tbn:ANd9GcTFh8hJz9qQNUcfQsRzvX5FDdAepQz44aH3_qpgJos2wbk867QQdA"/>
          <p:cNvPicPr/>
          <p:nvPr/>
        </p:nvPicPr>
        <p:blipFill>
          <a:blip r:embed="rId6"/>
          <a:stretch/>
        </p:blipFill>
        <p:spPr>
          <a:xfrm>
            <a:off x="7086600" y="2362320"/>
            <a:ext cx="17906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vel Literature Cir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52480" y="121896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will take place on the Wiki or Shelf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one member set up your book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will write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terature Focus Un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ased on your book (This will eventually lead to your PBA for Livetext-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egrated Un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ANd9GcTZ3uIm1AtyfNvztjZPoxQwdNMPDy_hoxClDhoDl5T3qYxTEdHw"/>
          <p:cNvPicPr/>
          <p:nvPr/>
        </p:nvPicPr>
        <p:blipFill>
          <a:blip r:embed="rId1"/>
          <a:stretch/>
        </p:blipFill>
        <p:spPr>
          <a:xfrm>
            <a:off x="239760" y="2362320"/>
            <a:ext cx="1614600" cy="238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ANd9GcTLrDUPMA6og1Yz4W5SYXDVZsI37gdh_xc1PAm0W3WKcoAD8f30"/>
          <p:cNvPicPr/>
          <p:nvPr/>
        </p:nvPicPr>
        <p:blipFill>
          <a:blip r:embed="rId2"/>
          <a:stretch/>
        </p:blipFill>
        <p:spPr>
          <a:xfrm>
            <a:off x="2057400" y="4468680"/>
            <a:ext cx="146700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200px-CharlotteWeb"/>
          <p:cNvPicPr/>
          <p:nvPr/>
        </p:nvPicPr>
        <p:blipFill>
          <a:blip r:embed="rId3"/>
          <a:stretch/>
        </p:blipFill>
        <p:spPr>
          <a:xfrm>
            <a:off x="6300720" y="4025880"/>
            <a:ext cx="1905120" cy="283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Nd9GcQWXzikWb7VZY9ybhppDLwYIfW-SRgyDqyI14e-tkcttlwHDPu17w"/>
          <p:cNvPicPr/>
          <p:nvPr/>
        </p:nvPicPr>
        <p:blipFill>
          <a:blip r:embed="rId4"/>
          <a:stretch/>
        </p:blipFill>
        <p:spPr>
          <a:xfrm>
            <a:off x="4038480" y="4227480"/>
            <a:ext cx="1724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cle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Lesson Plan/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Lesson Plan/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 plan form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s://encrypted-tbn3.google.com/images?q=tbn:ANd9GcSx8QJ0L-RPAPE35F6QhMTKDS6Xjsai_kXVJB0VC420ZWfoRggTsQ"/>
          <p:cNvPicPr/>
          <p:nvPr/>
        </p:nvPicPr>
        <p:blipFill>
          <a:blip r:embed="rId1"/>
          <a:stretch/>
        </p:blipFill>
        <p:spPr>
          <a:xfrm>
            <a:off x="457200" y="228600"/>
            <a:ext cx="3733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your Literature Circle page on the Wiki (or Shelfa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in your Writer’s Notebook (Take an idea from your Heart Ma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 Articl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useum Litera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Critical Literacy and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Literature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e in a Literature Cir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Novel Literature Circles and Literature Focus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ANd9GcQDe1LYk075KonpzF9PhFwJoQD5iDxuEbRAAcPK4aK-IAn4gp5P"/>
          <p:cNvPicPr/>
          <p:nvPr/>
        </p:nvPicPr>
        <p:blipFill>
          <a:blip r:embed="rId1"/>
          <a:stretch/>
        </p:blipFill>
        <p:spPr>
          <a:xfrm>
            <a:off x="650880" y="0"/>
            <a:ext cx="13716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ssage to Freedom: The Sugihar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 Ken Mochizu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over.jpg"/>
          <p:cNvPicPr/>
          <p:nvPr/>
        </p:nvPicPr>
        <p:blipFill>
          <a:blip r:embed="rId1"/>
          <a:stretch/>
        </p:blipFill>
        <p:spPr>
          <a:xfrm>
            <a:off x="2286000" y="2590920"/>
            <a:ext cx="42670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7944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Sugihara a “good citizen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historical figures similar to Sugih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room applicatio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www.bibicheff.com/english/images/citizenship_1.jpg"/>
          <p:cNvPicPr/>
          <p:nvPr/>
        </p:nvPicPr>
        <p:blipFill>
          <a:blip r:embed="rId1"/>
          <a:stretch/>
        </p:blipFill>
        <p:spPr>
          <a:xfrm>
            <a:off x="4724280" y="4199040"/>
            <a:ext cx="40197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nection to Literature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What literary characters do you know of who “break the rules” for the greater goo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s://encrypted-tbn1.gstatic.com/images?q=tbn:ANd9GcQ7z1pMX0iz-I8Kw0z9qW38lGBmm-ObvkNZrZIYuBl7MqYeYMO9QA"/>
          <p:cNvPicPr/>
          <p:nvPr/>
        </p:nvPicPr>
        <p:blipFill>
          <a:blip r:embed="rId1"/>
          <a:stretch/>
        </p:blipFill>
        <p:spPr>
          <a:xfrm>
            <a:off x="304920" y="2362320"/>
            <a:ext cx="1108080" cy="167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encrypted-tbn2.gstatic.com/images?q=tbn:ANd9GcSRH589rd4TGtLgiwpVcRKh9vxvdCjXcnl_zgpzrKh7sOeQtBS-Hg"/>
          <p:cNvPicPr/>
          <p:nvPr/>
        </p:nvPicPr>
        <p:blipFill>
          <a:blip r:embed="rId2"/>
          <a:stretch/>
        </p:blipFill>
        <p:spPr>
          <a:xfrm>
            <a:off x="2438280" y="205740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3.bp.blogspot.com/-z6SRjsuV--I/TzyCQ9vcjXI/AAAAAAAACvk/bX8BY_SQqMo/s400/charlottes-web_1.jpg"/>
          <p:cNvPicPr/>
          <p:nvPr/>
        </p:nvPicPr>
        <p:blipFill>
          <a:blip r:embed="rId3"/>
          <a:stretch/>
        </p:blipFill>
        <p:spPr>
          <a:xfrm>
            <a:off x="6553080" y="2133720"/>
            <a:ext cx="221004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s://encrypted-tbn1.gstatic.com/images?q=tbn:ANd9GcSXv0m1vdqTsPgoz0PR7T0n_y9RL3KFDGCTs_psYlyE485QhwFm6A"/>
          <p:cNvPicPr/>
          <p:nvPr/>
        </p:nvPicPr>
        <p:blipFill>
          <a:blip r:embed="rId4"/>
          <a:stretch/>
        </p:blipFill>
        <p:spPr>
          <a:xfrm>
            <a:off x="4648320" y="4038480"/>
            <a:ext cx="1371600" cy="203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s://encrypted-tbn1.gstatic.com/images?q=tbn:ANd9GcTDnQwDlI90AhvBI3Qc-UosaKbBZCEeM3E8QGQBuSBX6hgqd2PQ6Q"/>
          <p:cNvPicPr/>
          <p:nvPr/>
        </p:nvPicPr>
        <p:blipFill>
          <a:blip r:embed="rId5"/>
          <a:stretch/>
        </p:blipFill>
        <p:spPr>
          <a:xfrm>
            <a:off x="655308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images5.fanpop.com/image/photos/24800000/Peeta-Katniss-and-Gale-the-hunger-games-movie-24818716-600-400.jpg"/>
          <p:cNvPicPr/>
          <p:nvPr/>
        </p:nvPicPr>
        <p:blipFill>
          <a:blip r:embed="rId6"/>
          <a:stretch/>
        </p:blipFill>
        <p:spPr>
          <a:xfrm>
            <a:off x="1523880" y="4038480"/>
            <a:ext cx="2400480" cy="1600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12600" y="571500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room Applica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Learning is inherently social and people learn as they do by meaning engaged in meaningful work (Dewe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Literacy learning is connected to relationships of language and power that examine the sociopolitical subtexts inherent in all literacy a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udents came to understand that there was a purpose and perspective behind each story, picture, or illustration and that, like language, images embody messages regarding underlying power re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er Response Cen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a Balanced Literacy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d for Student Independence, responsibility and own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rtunity to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pply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ading and writing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le Groups (don’t stay the s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iterature Circle Resource Center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litcircles.org/Overview/overview.html#change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3948120" y="2833560"/>
            <a:ext cx="1247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3948120" y="2833560"/>
            <a:ext cx="1247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3948120" y="2833560"/>
            <a:ext cx="1247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3948120" y="2833560"/>
            <a:ext cx="1247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3948120" y="2833560"/>
            <a:ext cx="1247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7" descr="ANd9GcRsHjMWDSoT9lQd-Hja2pNzupHvDZ4NLiiFPLS9FaK4MgdrwvLz"/>
          <p:cNvPicPr/>
          <p:nvPr/>
        </p:nvPicPr>
        <p:blipFill>
          <a:blip r:embed="rId2"/>
          <a:stretch/>
        </p:blipFill>
        <p:spPr>
          <a:xfrm>
            <a:off x="228600" y="228600"/>
            <a:ext cx="2895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dwritethink.org/files/resources/lesson_images/lesson19/LiteratureCircleProcess.pd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 lessons focus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iscussion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h Bow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listen"/>
          <p:cNvPicPr/>
          <p:nvPr/>
        </p:nvPicPr>
        <p:blipFill>
          <a:blip r:embed="rId3"/>
          <a:stretch/>
        </p:blipFill>
        <p:spPr>
          <a:xfrm>
            <a:off x="6172200" y="2438280"/>
            <a:ext cx="2473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 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scussion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 Capt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ene S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assage Master (Literary Lumina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erary Cri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d Wiz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ttp://www.lauracandler.com/filecabinet/literacy/PDFLC/roledescrip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om Harvey Daniels,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iterature Circles: Voice and Choice in the Student Centered Classroo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ANd9GcQlWwTY2qKDAF2omYX42XUoOlgZsKWr7ZGTYsU1SmUeW7-Si54Oww"/>
          <p:cNvPicPr/>
          <p:nvPr/>
        </p:nvPicPr>
        <p:blipFill>
          <a:blip r:embed="rId3"/>
          <a:stretch/>
        </p:blipFill>
        <p:spPr>
          <a:xfrm>
            <a:off x="152280" y="380880"/>
            <a:ext cx="1928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4:19:22Z</dcterms:created>
  <dc:creator>College of Education</dc:creator>
  <dc:description/>
  <dc:language>en-US</dc:language>
  <cp:lastModifiedBy>dana karraker</cp:lastModifiedBy>
  <dcterms:modified xsi:type="dcterms:W3CDTF">2013-01-26T17:28:06Z</dcterms:modified>
  <cp:revision>5</cp:revision>
  <dc:subject/>
  <dc:title>TCH 264: Critical Literacy and Literature Circles</dc:title>
</cp:coreProperties>
</file>